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E0B-DAEC-4123-89F8-832877E2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32E-347A-4593-97E2-B41FF7A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7E0-0F64-48F1-9297-28355F29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C40-0275-40AF-8BFD-71E38E80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963-C7CA-487A-848D-C310008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79D-5F56-44CE-92AB-F9213576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2C1-9DC8-4644-A8F0-DFB068A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0B6-538A-4BAC-BACA-530D60E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6AB-7A95-4E30-8EFC-F02D84E0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991-6C44-4F44-A45F-AA928E1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E89-235A-4B18-9A4B-AA96C0F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33F-CC1C-4E77-AE7F-92C8B5F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D0A8-8ADA-4D87-B1DC-C53E1E3522C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9 Vstaň, žatva sa už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ťaň, žatva sa už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 od svita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nech ťa nezastih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ť zmešk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slnko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sa dĺž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 v čase polud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z, že ťa stihnúť môž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íľa posle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 len, dieťa Bož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máhaj nechuť, l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j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chop sa a neváh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s odmenou ťa ča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ráci vytr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nezastrie ť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ozivý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prilož ruku k die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spásy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50:31Z</dcterms:modified>
  <cp:revision>43</cp:revision>
  <dc:subject/>
  <dc:title>Je veľký náš Pán, on slávy je Kráľ Nech do všetkých strán  spev vrúcnych znie chvál.</dc:title>
</cp:coreProperties>
</file>